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FD2-58C5-4C4C-AEA8-B4D81373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581-F869-4EDF-B3D4-C34B3C01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89F-F267-42A0-8DF2-22DFC646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107-6E77-41CE-A781-F1EA396B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511-BB33-4F0D-8DC4-B9646266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AE0-1CF1-4B17-834B-10A09500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1FB-2175-4C0C-A268-1B75229F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259C-34FA-444B-8023-6A82AF9C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2D2-F333-4509-B09D-6141100B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45F-0E6E-436F-B99B-4F7E8DFD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2BA-B3CF-4310-8940-8ACDC57F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B59-AF9B-4B5E-99F3-28A6B5DB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35DE-A7D4-459D-8E4F-4A50B2CF1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11280" y="620640"/>
          <a:ext cx="3743280" cy="5543640"/>
        </p:xfrm>
        <a:graphic>
          <a:graphicData uri="http://schemas.openxmlformats.org/drawingml/2006/table">
            <a:tbl>
              <a:tblPr/>
              <a:tblGrid>
                <a:gridCol w="1871640"/>
                <a:gridCol w="1871640"/>
              </a:tblGrid>
              <a:tr h="92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an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b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I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i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o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w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th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t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57140640" y="-36360"/>
          <a:ext cx="4751280" cy="6930720"/>
        </p:xfrm>
        <a:graphic>
          <a:graphicData uri="http://schemas.openxmlformats.org/drawingml/2006/table">
            <a:tbl>
              <a:tblPr/>
              <a:tblGrid>
                <a:gridCol w="2149560"/>
                <a:gridCol w="2601720"/>
              </a:tblGrid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b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f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h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h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h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sa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859280" y="738360"/>
          <a:ext cx="4140360" cy="6119640"/>
        </p:xfrm>
        <a:graphic>
          <a:graphicData uri="http://schemas.openxmlformats.org/drawingml/2006/table">
            <a:tbl>
              <a:tblPr/>
              <a:tblGrid>
                <a:gridCol w="1873080"/>
                <a:gridCol w="2267280"/>
              </a:tblGrid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b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f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h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h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h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sa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5798520" y="189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7240" y="333360"/>
            <a:ext cx="15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lden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an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by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do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go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if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m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my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no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or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up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788000" y="765000"/>
          <a:ext cx="3960720" cy="5688000"/>
        </p:xfrm>
        <a:graphic>
          <a:graphicData uri="http://schemas.openxmlformats.org/drawingml/2006/table">
            <a:tbl>
              <a:tblPr/>
              <a:tblGrid>
                <a:gridCol w="2098440"/>
                <a:gridCol w="1862280"/>
              </a:tblGrid>
              <a:tr h="71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big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c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d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h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g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hi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ne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no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of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ol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ou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ou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se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s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tw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wh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1406520" y="9810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lu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7960" y="2602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gree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4360" y="836640"/>
          <a:ext cx="3527280" cy="5832360"/>
        </p:xfrm>
        <a:graphic>
          <a:graphicData uri="http://schemas.openxmlformats.org/drawingml/2006/table">
            <a:tbl>
              <a:tblPr/>
              <a:tblGrid>
                <a:gridCol w="1763640"/>
                <a:gridCol w="17636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back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lik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be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ju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int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ca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fro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dow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ma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the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mu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ov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th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wh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wel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w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500720" y="907920"/>
          <a:ext cx="4464000" cy="5687640"/>
        </p:xfrm>
        <a:graphic>
          <a:graphicData uri="http://schemas.openxmlformats.org/drawingml/2006/table">
            <a:tbl>
              <a:tblPr/>
              <a:tblGrid>
                <a:gridCol w="2072160"/>
                <a:gridCol w="2391840"/>
              </a:tblGrid>
              <a:tr h="95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cal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then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come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were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here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wh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make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will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must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your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only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some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5870880" y="40464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digo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7240" y="3333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orang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577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Arial"/>
              </a:rPr>
              <a:t>Viole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26920" y="1052640"/>
          <a:ext cx="4105440" cy="5184720"/>
        </p:xfrm>
        <a:graphic>
          <a:graphicData uri="http://schemas.openxmlformats.org/drawingml/2006/table">
            <a:tbl>
              <a:tblPr/>
              <a:tblGrid>
                <a:gridCol w="2052720"/>
                <a:gridCol w="205272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abou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righ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whi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coul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fi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wa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litt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the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loo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1:53:50Z</dcterms:created>
  <dc:creator>01690112</dc:creator>
  <dc:description/>
  <dc:language>en-US</dc:language>
  <cp:lastModifiedBy>01690112</cp:lastModifiedBy>
  <dcterms:modified xsi:type="dcterms:W3CDTF">2009-07-14T12:06:58Z</dcterms:modified>
  <cp:revision>2</cp:revision>
  <dc:subject/>
  <dc:title>Slide 1</dc:title>
</cp:coreProperties>
</file>